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A13-9934-483E-B65C-D137943C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DF9-D11C-4E03-972A-8D8896E1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48A-768E-4C49-AD3C-23808AD0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A43-4F9F-451D-8354-19686F2F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9BA-3599-4075-9026-7C43DB5C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114-2229-452F-B4BB-E5265585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6F7-CED6-4B4A-AB1B-058A66E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A0F-CB63-49A3-B35C-CA198081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5C8-CFC7-4F46-9A9B-AFAF79E0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F41-9863-4EFD-872B-D9AB7765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7FB-A191-464B-9432-7B2F360E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7A8-767F-4148-B44B-B0E8807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8C87-67CF-45D7-9F93-CB3684839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omoge.com/modern-private-mansion-located-in-brighton/modern-private-mansion-located-in-brighton-pools-photos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dresdes.com/2010/12/upholstery-cushion-and-aquarium-home-decoration-ideas/modern-dining-room-with-large-aquariu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La Mansi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or: Eesha Yad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53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garaje. El garaje es moderno y gra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952960" cy="4527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Modern Private Mansion Located in Brighton Pools Photos Modern Private Mansion Located in Bright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514600"/>
            <a:ext cx="5048280" cy="336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21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a mansi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n. La mansión es moderna y gra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57800" cy="322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a cocina. La cocina es magnifica y increí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odern dining room with large aquar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5248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6858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comedor. El comedor es nuevo y magnif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276880" cy="394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a sala. La sala es fabulosa y </a:t>
            </a:r>
            <a:r>
              <a:rPr b="0" lang="es-ES" sz="3600" spc="-1" strike="noStrike">
                <a:solidFill>
                  <a:srgbClr val="000000"/>
                </a:solidFill>
                <a:latin typeface="Arial Narrow"/>
              </a:rPr>
              <a:t>asombrosa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458040" cy="4043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60948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baño. El baño es lujoso y magnífic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609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cuarto. El cuarto es nuevo y bel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wesome Aquarium Bedroom Interior Design"/>
          <p:cNvPicPr/>
          <p:nvPr/>
        </p:nvPicPr>
        <p:blipFill>
          <a:blip r:embed="rId1"/>
          <a:stretch/>
        </p:blipFill>
        <p:spPr>
          <a:xfrm>
            <a:off x="1905120" y="2133720"/>
            <a:ext cx="5267160" cy="3668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ome Design, SAOTA Nettleton 198: Beautifully Modern Home in Clifton, South Africa: Nettleton 198 Exterior Contemporary Huge Sun Patio Design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04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patio. El patio es estupendo y lujos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81720" cy="436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533520"/>
            <a:ext cx="693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jardín. El jardín es bello y boni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1:43Z</dcterms:created>
  <dc:creator>yadavees</dc:creator>
  <dc:description/>
  <dc:language>en-US</dc:language>
  <cp:lastModifiedBy>yadavees</cp:lastModifiedBy>
  <dcterms:modified xsi:type="dcterms:W3CDTF">2012-10-25T18:07:55Z</dcterms:modified>
  <cp:revision>5</cp:revision>
  <dc:subject/>
  <dc:title>La Mansión</dc:title>
</cp:coreProperties>
</file>